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75A-C44E-4063-8724-F944860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D05-7002-4250-BA2F-F7987D8A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F57-E017-4211-BF24-1F9C858A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A4B-96ED-4AF9-9F0A-639E7135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4E1-D1C6-477E-94B4-7D92DEEC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6D0-D7A5-4FC3-A373-60551B3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A4AB-6048-4EEA-888B-A25F431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F01-D148-4CEA-ABCD-A9195981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3CE4-46DA-4561-95DE-D184B962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BF55-0661-4E8A-BDB6-8A2D55B9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B57C-49C0-4E35-846E-E5DBFC8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F00-2B1D-4636-914E-59CC110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BAB1-F57F-487E-BBC3-08EF8C6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2424-4248-4612-8E43-DB3688F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148-061E-4DA8-BE4C-B6C80761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019-348B-4D63-8F8B-7D21B910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8091-0403-4F1F-8B0C-D4EFBB38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6E4D-CC87-444F-817C-A97C8D5F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CC9A-F29D-4EBE-AC33-68F4905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7179-329E-4123-A1F3-B9532DE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00D0-3BC3-4B09-BB99-C3A7A89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58A6-61D0-4760-863A-F1D8DB4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522-28AA-4460-A581-F3DC13A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6D60-9F6B-4DFF-B712-9C4FA63E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5FFB-898A-4381-A53D-61681DF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B9FA-AB0D-492C-837F-204AAEF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99BA-22F3-4613-B1F2-00ADD95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E7C3-EC61-4EB8-A2DE-58B42A50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08D7-9CBC-4600-A5C9-91CD9B0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3141-D699-48E4-BECA-8252299A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64E-6957-4E7B-9E5B-C811D902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6DD-7FF7-4FFA-9BD6-342EE7A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D08-1393-4E18-A883-FFACD680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820-9DD0-417B-940E-E3FD9F9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C38-F514-4C1F-8FD9-66D9D70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C63-6CC2-4063-B948-80EEBD06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7B5-36D8-4658-95C9-85245A054A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821A-257C-4579-B904-2D330769FFE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7209-599A-4F9B-AD35-E1D1C43D833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D296-B6F6-4A7A-8217-80294AD7E4E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340-1DB1-4D32-8AA1-C988A99180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2EF7-D2DD-45C8-868E-1445A9F7A96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474840"/>
            <a:ext cx="8042400" cy="133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c7c9f"/>
                </a:solidFill>
                <a:latin typeface="News Gothic MT"/>
              </a:rPr>
              <a:t>Declining Balance Method of Depreciation</a:t>
            </a:r>
            <a:endParaRPr b="0" lang="en-US" sz="49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685800" y="187020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the Book Value by a constant depreciation rate at the end of each fiscal peri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 plant asset is never depreciated below its estimated salvage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c7c9f"/>
                </a:solidFill>
                <a:latin typeface="News Gothic MT"/>
              </a:rPr>
              <a:t>CALCULATING DEPRECIATION USING THE DOUBLE DECLINING-BALANCE METHOD</a:t>
            </a:r>
            <a:endParaRPr b="0" lang="en-US" sz="2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154080" y="1295280"/>
            <a:ext cx="7923240" cy="2589120"/>
            <a:chOff x="154080" y="1295280"/>
            <a:chExt cx="7923240" cy="2589120"/>
          </a:xfrm>
        </p:grpSpPr>
        <p:sp>
          <p:nvSpPr>
            <p:cNvPr id="129" name="Text Box 6"/>
            <p:cNvSpPr/>
            <p:nvPr/>
          </p:nvSpPr>
          <p:spPr>
            <a:xfrm>
              <a:off x="154080" y="2327400"/>
              <a:ext cx="7923240" cy="15570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ears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aight-Lin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reci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ima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e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ns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÷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 Lif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Deprec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282760"/>
                  <a:tab algn="ctr" pos="3665520"/>
                  <a:tab algn="ctr" pos="5032440"/>
                  <a:tab algn="ctr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457200" y="1295280"/>
              <a:ext cx="858600" cy="858600"/>
              <a:chOff x="457200" y="1295280"/>
              <a:chExt cx="858600" cy="858600"/>
            </a:xfrm>
          </p:grpSpPr>
          <p:sp>
            <p:nvSpPr>
              <p:cNvPr id="131" name="Text Box 8"/>
              <p:cNvSpPr/>
              <p:nvPr/>
            </p:nvSpPr>
            <p:spPr>
              <a:xfrm>
                <a:off x="4572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9"/>
              <p:cNvSpPr/>
              <p:nvPr/>
            </p:nvSpPr>
            <p:spPr>
              <a:xfrm>
                <a:off x="914400" y="129528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0"/>
              <p:cNvSpPr/>
              <p:nvPr/>
            </p:nvSpPr>
            <p:spPr>
              <a:xfrm>
                <a:off x="457200" y="175536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1"/>
              <p:cNvSpPr/>
              <p:nvPr/>
            </p:nvSpPr>
            <p:spPr>
              <a:xfrm>
                <a:off x="914400" y="175392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Text Box 13"/>
          <p:cNvSpPr/>
          <p:nvPr/>
        </p:nvSpPr>
        <p:spPr>
          <a:xfrm>
            <a:off x="152280" y="350532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54080" y="4038480"/>
            <a:ext cx="7923240" cy="1557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ight-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clining-Bal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52280" y="521640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282760"/>
                <a:tab algn="ctr" pos="3665520"/>
                <a:tab algn="ctr" pos="5032440"/>
                <a:tab algn="ctr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CALCULATING DEPRECIATION USING THE DOUBLE DECLINING-BALANCE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Picture 4" descr="D:\C21 PowerPoint\Multi_Journal\art for blue\Ch21\Ch21-05a.jpg"/>
          <p:cNvPicPr/>
          <p:nvPr/>
        </p:nvPicPr>
        <p:blipFill>
          <a:blip r:embed="rId2"/>
          <a:srcRect l="4363" t="21327" r="0" b="57487"/>
          <a:stretch/>
        </p:blipFill>
        <p:spPr>
          <a:xfrm>
            <a:off x="457200" y="1477800"/>
            <a:ext cx="8229600" cy="2146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858000" y="2849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257800" y="2925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33520" y="50594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ending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33520" y="43210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the double declining-balance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33520" y="4686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annual depreciation exp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33520" y="54403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the book value to the following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2514600" y="3002040"/>
            <a:ext cx="6095880" cy="861480"/>
            <a:chOff x="2514600" y="3002040"/>
            <a:chExt cx="6095880" cy="861480"/>
          </a:xfrm>
        </p:grpSpPr>
        <p:sp>
          <p:nvSpPr>
            <p:cNvPr id="148" name="Freeform 14"/>
            <p:cNvSpPr/>
            <p:nvPr/>
          </p:nvSpPr>
          <p:spPr>
            <a:xfrm>
              <a:off x="2514600" y="3002040"/>
              <a:ext cx="6095880" cy="609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6"/>
            <p:cNvSpPr/>
            <p:nvPr/>
          </p:nvSpPr>
          <p:spPr>
            <a:xfrm>
              <a:off x="3429000" y="333036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3733920" y="26971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3207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CALCULATING THE LAST YEAR’S DEPRECIATION EXPENSE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D:\C21 PowerPoint\Multi_Journal\art for blue\Ch21\Ch21-05b.jpg"/>
          <p:cNvPicPr/>
          <p:nvPr/>
        </p:nvPicPr>
        <p:blipFill>
          <a:blip r:embed="rId2"/>
          <a:srcRect l="4015" t="21327" r="0" b="49934"/>
          <a:stretch/>
        </p:blipFill>
        <p:spPr>
          <a:xfrm>
            <a:off x="457200" y="1477800"/>
            <a:ext cx="8229600" cy="2909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6934320" y="35352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334120" y="34592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09480" y="544032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e ending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09480" y="47023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ansfer the book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09480" y="506736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the last year’s deprec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743200" y="3611520"/>
            <a:ext cx="5867280" cy="1143000"/>
            <a:chOff x="2743200" y="3611520"/>
            <a:chExt cx="5867280" cy="1143000"/>
          </a:xfrm>
        </p:grpSpPr>
        <p:sp>
          <p:nvSpPr>
            <p:cNvPr id="160" name="Freeform 14"/>
            <p:cNvSpPr/>
            <p:nvPr/>
          </p:nvSpPr>
          <p:spPr>
            <a:xfrm>
              <a:off x="2743200" y="3611520"/>
              <a:ext cx="5867280" cy="914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"/>
            <p:cNvSpPr/>
            <p:nvPr/>
          </p:nvSpPr>
          <p:spPr>
            <a:xfrm>
              <a:off x="4648320" y="42210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11430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COMPARISON OF THE TWO METHODS OF DEPRECIA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3" name="Picture 4" descr="D:\C21 PowerPoint\Multi_Journal\art for blue\Ch21\Ch21-05c.jpg"/>
          <p:cNvPicPr/>
          <p:nvPr/>
        </p:nvPicPr>
        <p:blipFill>
          <a:blip r:embed="rId2"/>
          <a:srcRect l="1093" t="0" r="0" b="65140"/>
          <a:stretch/>
        </p:blipFill>
        <p:spPr>
          <a:xfrm>
            <a:off x="457200" y="2392200"/>
            <a:ext cx="8229600" cy="345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344360" y="74206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5, page 5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2:18:57Z</dcterms:created>
  <dc:creator>Mary Colleen McLaughlin</dc:creator>
  <dc:description/>
  <dc:language>en-US</dc:language>
  <cp:lastModifiedBy>David Combs</cp:lastModifiedBy>
  <dcterms:modified xsi:type="dcterms:W3CDTF">2011-10-17T22:29:56Z</dcterms:modified>
  <cp:revision>63</cp:revision>
  <dc:subject/>
  <dc:title>ADJUSTING ENTRY FOR SUPPLIES</dc:title>
</cp:coreProperties>
</file>